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8D7-040D-4D73-9470-EFC36C86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3F2-904C-4C22-B916-1225E958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F26-C9C0-41E6-9E08-C30AF179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E29-0700-415E-80E5-78099340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396E-2E40-4ACA-BC1A-D7D0A67C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896-24A1-46D2-84E1-809809C7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97A-92F4-445F-9C0B-B18043FA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6168-FEDF-4930-9C45-A1B51D06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D61-2953-483E-9EA6-0FF6D8C3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9D7-0D37-4BE0-8D24-8C38DAD5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9B2-2764-4098-86AD-201BAFB9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622E-076E-4F68-A0F4-CDBF2FE0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9B95-88D6-4551-88E2-25D470F9A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382160" cy="81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008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y: 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  obrázek s logy je třeba umístit do záhlaví každého slid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  do prezentace není možno umístit loga jiných subje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09:00Z</dcterms:created>
  <dc:creator>pekarj</dc:creator>
  <dc:description/>
  <dc:language>en-US</dc:language>
  <cp:lastModifiedBy>pekarj</cp:lastModifiedBy>
  <dcterms:modified xsi:type="dcterms:W3CDTF">2009-08-14T05:40:16Z</dcterms:modified>
  <cp:revision>2</cp:revision>
  <dc:subject/>
  <dc:title>Poznámka: obrázek s logy je třeba umístit do záhlaví každého slidu</dc:title>
</cp:coreProperties>
</file>